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B9-065A-46EF-B582-9780CE6B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AA3-9C02-49CF-BC40-47C8DB8A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BF5-DF3C-448D-9F86-CADA48CE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1A9-8A94-4B45-A348-A6455BCB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0AAF-E79C-421B-84B0-3962AAE6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610-6677-4675-B597-5B51E0FC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57A8-4218-463C-BE36-C4822FE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7C7-255A-4685-8494-40486E8F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671-AE4E-48D1-BFF6-6CB364E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72F7-4184-4C09-823A-BA36E5F0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FB2-B5B0-4AB4-8B31-6ED741C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A4F-439F-475B-B08B-7A5746E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2F55-3CA6-4844-B964-EF90E06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834-569A-4668-9491-F6D09EA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E4F6-E133-43A5-85C8-65B8609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7FB3-B23B-48DD-A7D5-1405553B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AE00-CEE0-4E7C-B5B7-E005A9DD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90B-197E-4664-AA07-635DC0D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DCC-224A-46B1-A1E1-9348C1D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3FF-43CC-4B96-BC1C-D2714E99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37E-D3EF-4ABF-AC45-941EA4D0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7AF-AE44-402D-9256-662252DF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C4D-991E-4A08-AA3F-F046280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BAE-6859-4367-96E9-0817AEE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59C9-E6F0-4C1E-9624-45FFDC0E8C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110-2FB9-4ABF-AADC-FD717DDDFB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2224f"/>
                </a:solidFill>
                <a:latin typeface="Garamond"/>
              </a:rPr>
              <a:t>Алгоритм разработки ЭОР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апы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53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Предварительная работ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Garamond"/>
              </a:rPr>
              <a:t>Сбор необходим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ка содержа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Дизайн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Производств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224f"/>
                </a:solidFill>
                <a:latin typeface="Garamond"/>
              </a:rPr>
              <a:t>Тестирова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Юридическ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7280" y="765000"/>
            <a:ext cx="4897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aramond"/>
              </a:rPr>
              <a:t>Формулировка исходной идеи. Оформление документации на разработку ЭУП. Оценка существующих элементов. Составление перечня необходимых и наличествующих специалис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66"/>
                </a:solidFill>
                <a:latin typeface="Garamond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ыделение дидактических подцелей. Составление плана. Представление содержания в форме модуле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Garamond"/>
              </a:rPr>
              <a:t>Разработка концепции. Выбор медиа (звук, изображение, видео). Написание сценария. Детальный дизайн + подключение интерактивн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Garamond"/>
              </a:rPr>
              <a:t>Программирование и оцифровка содержания. Содержание изображений, звука и пр. Компоновка готовых материалов в модули. Наладка навигации на продукци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224f"/>
                </a:solidFill>
                <a:latin typeface="Garamond"/>
              </a:rPr>
              <a:t>Тестирование и оценка продук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aramond"/>
              </a:rPr>
              <a:t>Регистрация и сертификация ЭУП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ребования к ЭОР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75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тен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уктура контента-со сценарием, интерактивны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уп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вигац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зентац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пользовате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Garamond"/>
              </a:rPr>
              <a:t>Мультимедиа</a:t>
            </a:r>
            <a:br>
              <a:rPr sz="4800"/>
            </a:br>
            <a:r>
              <a:rPr b="1" lang="en-US" sz="4000" spc="-1" strike="noStrike">
                <a:solidFill>
                  <a:srgbClr val="f2224f"/>
                </a:solidFill>
                <a:latin typeface="Garamond"/>
              </a:rPr>
              <a:t>-технология, описывающая порядок разработки , функционирования и применения средств обработки разных типов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56000" y="3429000"/>
            <a:ext cx="42800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31640" y="260280"/>
            <a:ext cx="8208360" cy="6262920"/>
            <a:chOff x="431640" y="260280"/>
            <a:chExt cx="8208360" cy="6262920"/>
          </a:xfrm>
        </p:grpSpPr>
        <p:cxnSp>
          <p:nvCxnSpPr>
            <p:cNvPr id="124" name="_s17426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4862520" y="3847320"/>
              <a:ext cx="783360" cy="143748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7424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3425760" y="3847680"/>
              <a:ext cx="783360" cy="143676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7422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580720" y="780120"/>
              <a:ext cx="783360" cy="287352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7421"/>
            <p:cNvCxnSpPr>
              <a:stCxn id="126" idx="0"/>
              <a:endCxn id="131" idx="2"/>
            </p:cNvCxnSpPr>
            <p:nvPr/>
          </p:nvCxnSpPr>
          <p:spPr>
            <a:xfrm flipV="1">
              <a:off x="4536000" y="1825560"/>
              <a:ext cx="3600" cy="78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7420"/>
            <p:cNvCxnSpPr>
              <a:stCxn id="134" idx="0"/>
              <a:endCxn id="131" idx="2"/>
            </p:cNvCxnSpPr>
            <p:nvPr/>
          </p:nvCxnSpPr>
          <p:spPr>
            <a:xfrm flipH="1" flipV="1" rot="5400000">
              <a:off x="2707560" y="780480"/>
              <a:ext cx="783360" cy="287352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7416"/>
            <p:cNvSpPr/>
            <p:nvPr/>
          </p:nvSpPr>
          <p:spPr>
            <a:xfrm>
              <a:off x="3304440" y="26028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Компонен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мультимеди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7417"/>
            <p:cNvSpPr/>
            <p:nvPr/>
          </p:nvSpPr>
          <p:spPr>
            <a:xfrm>
              <a:off x="43164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Garamond"/>
                </a:rPr>
                <a:t>Звук-</a:t>
              </a: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WAV,MP3,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MIDI, RA, RA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7418"/>
            <p:cNvSpPr/>
            <p:nvPr/>
          </p:nvSpPr>
          <p:spPr>
            <a:xfrm>
              <a:off x="330444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Компьютерна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графи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7419"/>
            <p:cNvSpPr/>
            <p:nvPr/>
          </p:nvSpPr>
          <p:spPr>
            <a:xfrm>
              <a:off x="6177600" y="260892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Виде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7423"/>
            <p:cNvSpPr/>
            <p:nvPr/>
          </p:nvSpPr>
          <p:spPr>
            <a:xfrm>
              <a:off x="1868400" y="495756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Растровый форм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7425"/>
            <p:cNvSpPr/>
            <p:nvPr/>
          </p:nvSpPr>
          <p:spPr>
            <a:xfrm>
              <a:off x="4741560" y="4957560"/>
              <a:ext cx="24624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Векторный форм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тература:</a:t>
            </a:r>
            <a:br>
              <a:rPr sz="44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раснянский М.Н., Радченко И.М. Основы педагогического дизайна и создания мультимедийных обучающих аудио/видео материалов.-Тамбов, 2006 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Гура В.В. Теоретические основы педагогического проектирования личностно-ориентированных электронных образовательных ресурсов и сред . Ростов н/Д: издательство Южного федерального ун-та, 2007 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Беляев М.И., Гришкун В.В., Краснова Г.А. Технология создания электронных средств обучения.</a:t>
            </a:r>
            <a:endParaRPr b="1" lang="en-US" sz="1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54Z</dcterms:created>
  <dc:creator>студент</dc:creator>
  <dc:description/>
  <dc:language>en-US</dc:language>
  <cp:lastModifiedBy>студент</cp:lastModifiedBy>
  <dcterms:modified xsi:type="dcterms:W3CDTF">2012-04-03T09:42:28Z</dcterms:modified>
  <cp:revision>2</cp:revision>
  <dc:subject/>
  <dc:title>Алгоритм разработки ЭОР</dc:title>
</cp:coreProperties>
</file>